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1E3BC-5A89-4A6E-A1FD-E20F17D43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133A3-9344-4D59-8834-AB29A7826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52CF9-443B-4B22-93BE-C0D0B2216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3BA71-01A7-4479-ABC4-21BC6449C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B2D9D-580B-4FAA-B383-78C9ED241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BB7E2-B054-4E0F-AE95-053F081B5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52FF4-04BB-4E16-A0A9-9ECDA655A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CAF5B-66D8-4E36-A72F-9C449B70E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D8FD1-1B74-42C7-A70E-9AE0FEFEA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80AB1-49FD-45DF-B1AC-88CD5138B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49611-6131-4F2A-AA13-FF21424B4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0BD41-0103-4939-B688-A6A5FC1F0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F516B-EAA6-4690-9263-19538808B2E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2"/>
          <a:stretch/>
        </p:blipFill>
        <p:spPr>
          <a:xfrm>
            <a:off x="1547640" y="0"/>
            <a:ext cx="6054840" cy="1052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129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нтегрисане а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емске студије фармације</a:t>
            </a:r>
            <a:br>
              <a:rPr sz="2000"/>
            </a:b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линичка фармација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III –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01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3"/>
          <p:cNvSpPr/>
          <p:nvPr/>
        </p:nvSpPr>
        <p:spPr>
          <a:xfrm>
            <a:off x="285840" y="2230560"/>
            <a:ext cx="8501040" cy="16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ига о репродуктивном здрављ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4"/>
          <p:cNvSpPr/>
          <p:nvPr/>
        </p:nvSpPr>
        <p:spPr>
          <a:xfrm>
            <a:off x="1371600" y="5661000"/>
            <a:ext cx="64008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ф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ушан Ђури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5"/>
          <p:cNvSpPr/>
          <p:nvPr/>
        </p:nvSpPr>
        <p:spPr>
          <a:xfrm>
            <a:off x="500040" y="3786120"/>
            <a:ext cx="8143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ционални приступ примени естрогена код постменопаузалних же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850752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зревање јајне ћелије (оогенеза) </a:t>
            </a:r>
            <a:r>
              <a:rPr b="1" lang="sr-Latn-C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79280" y="1484280"/>
            <a:ext cx="878544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очиње током феталног живота, али се не завршава све до тренутка оплођења јајне ћелије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току феталног живота, путем митоза долази до пролиферације оогонија (завршава се на половини живота фетуса када се ооците заустављају у фази прве мејотичке деобе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рођењу број јајних ћелија износи 1-2 милиона, а на почетку пубертета у јајнику се налази око 100000 ооцит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ајне ћелије могу бити стимулисане да се потпуно развију и ослободе током овулације или могу одумрети у процесу атрезије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зревање јајне ћелије (оогенеза) </a:t>
            </a:r>
            <a:r>
              <a:rPr b="1" lang="sr-Latn-C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179280" y="1484280"/>
            <a:ext cx="878544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вија унутар структура – фоликул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стимулисани фоликул садржи једну примарну јајну ћелију окружену једним слојем гранулоза ћелија, које су окружене тека ћелијам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почетку сваког месечног оваријалног циклуса неколико фоликула бива стимулисано – само један постаје доминантни фоликул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тавља развој све до овулације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78544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зревање јајне ћелије (оогенеза) </a:t>
            </a:r>
            <a:r>
              <a:rPr b="1" lang="sr-Latn-C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179280" y="1341000"/>
            <a:ext cx="91440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фоликулу који се развија, увећава се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ајна ћелија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гранулоза ћелије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о јајне ћелије се формира бистар желатинозни прстен екстрацелуларног матрикса –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она пелуцид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минатни фоликул постаје –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фов фоликул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кон наглог и интезивног ослобађања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хормона (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алас) ооцит унутар Графовог фоликула завршава прву мејотичку деобу и постаје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кундарни ооцит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скањем Графовог фоликула у време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вулациј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збацује се јајна ћелија у перитонеалну дупљу близу фимбрија јајовод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снути фоликул колабира, гранулоза ћелије пролиферишу, под утицајем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олази до структуралних промена у току којих прснути фоликул постаје жуто тело (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rpus luteu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енструални циклус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78920" y="1341000"/>
            <a:ext cx="87138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иклична активност хипоталамо-оваријалне осовине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води до овулације и истовременог развоја повољне средине унутар материце која може да подржи трудноћу (ако јајна ћелија буде оплођена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нструални циклус и оваријални циклус се понављају отприлике сваких 28 дан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ви дан менструалног крварења означава први дан менструалног циклус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основу догађаја унутар јајника, оваријални циклус се дели у три фаз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ликуларн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з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-14 dana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з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улације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3-15 dana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утеинск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за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5-28 dana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Фоликуларна фаза (1-14 дана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79280" y="907920"/>
            <a:ext cx="878544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шава се током прве половине менструалног циклуса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 се претходни циклус ближи крају, жуто тело одумире, настаје нагли пад концетрације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естерона, естрогена и инхибина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плазми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цетрација ФСХ у плазми расте (губитак негативне повратне спреге)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 утицајем ФСХ група примарних фоликула почиње да расте (процес почиње у последња 2-3 дана претходног циклуса)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нулоза ћелије под утицајем ФСХ луче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троген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хибин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за синтезу естрогена као супстрат се користе андрогени који се синтетишу у ћелијама теке)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о средине фоликуларне фазе наступа супресија лучења ФСХ (спречава се активирање више фоликула)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јављује се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минатни фоликул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веома осетљив на деловање ФСХ, који се даље развија и лучи естроген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ње доминантни фоликули претрпе атрезију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Фаза овулације </a:t>
            </a:r>
            <a:r>
              <a:rPr b="1" lang="sr-Latn-CS" sz="4000" spc="-1" strike="noStrike">
                <a:solidFill>
                  <a:srgbClr val="000000"/>
                </a:solidFill>
                <a:latin typeface="Calibri"/>
              </a:rPr>
              <a:t>(13-15 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дана</a:t>
            </a:r>
            <a:r>
              <a:rPr b="1" lang="sr-Latn-CS" sz="4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250560" y="1341000"/>
            <a:ext cx="87138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ЛХ талас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започиње овулацију која се коначно догоди око 12 сати након што ниво </a:t>
            </a:r>
            <a:r>
              <a:rPr b="0" lang="sr-Latn-CS" sz="2200" spc="-1" strike="noStrike">
                <a:solidFill>
                  <a:srgbClr val="000000"/>
                </a:solidFill>
                <a:latin typeface="Calibri"/>
              </a:rPr>
              <a:t>LH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у плазми достигне врхунац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Доминантни фоликул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сигнализира хипофизи да је сазрео (ослобађа велике количине естрогена, механизмом негативне повратне спреге делује на гонадотропне ћелије предњег режња хипофизе чинећи их остљивијим на деловање гонадотропин-ослобађајућег хормома (</a:t>
            </a:r>
            <a:r>
              <a:rPr b="0" lang="sr-Latn-CS" sz="2200" spc="-1" strike="noStrike">
                <a:solidFill>
                  <a:srgbClr val="000000"/>
                </a:solidFill>
                <a:latin typeface="Calibri"/>
              </a:rPr>
              <a:t>GnRH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 хипоталамуса)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Примарна ооцита завршава прву мејотичку деобу – постаје већа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секундарна ооцита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(велики пораст концетрације </a:t>
            </a:r>
            <a:r>
              <a:rPr b="0" lang="sr-Latn-CS" sz="2200" spc="-1" strike="noStrike">
                <a:solidFill>
                  <a:srgbClr val="000000"/>
                </a:solidFill>
                <a:latin typeface="Calibri"/>
              </a:rPr>
              <a:t>LH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, зауставља се у фази друге мејотичке деобе (до оплодње остаје у тој фази)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Овулација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– прскање доминантног фоликула услед деловања: </a:t>
            </a:r>
            <a:r>
              <a:rPr b="0" lang="sr-Latn-CS" sz="2200" spc="-1" strike="noStrike">
                <a:solidFill>
                  <a:srgbClr val="000000"/>
                </a:solidFill>
                <a:latin typeface="Calibri"/>
              </a:rPr>
              <a:t>LH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, прогестерона и локално ослобођених простагландина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Ослобођена јајна ћелија окружена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зоном пелуцидом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и гранулоза ћелијам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Лутеинска фаза </a:t>
            </a:r>
            <a:r>
              <a:rPr b="1" lang="sr-Latn-CS" sz="4000" spc="-1" strike="noStrike">
                <a:solidFill>
                  <a:srgbClr val="000000"/>
                </a:solidFill>
                <a:latin typeface="Calibri"/>
              </a:rPr>
              <a:t>(15-28 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дан</a:t>
            </a:r>
            <a:r>
              <a:rPr b="1" lang="sr-Latn-CS" sz="4000" spc="-1" strike="noStrike">
                <a:solidFill>
                  <a:srgbClr val="000000"/>
                </a:solidFill>
                <a:latin typeface="Calibri"/>
              </a:rPr>
              <a:t>a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250920" y="1341360"/>
            <a:ext cx="864216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а се жуто тело (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H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тимулише диференцијацију тека и гранулоза ћелија у тека-лутеинске и гранулоза-лутеинске ћелије)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вни секреторни продукт –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естерон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такође,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троген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хибин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ком лутеинске фазе високи нивои естрогена нису у стању да изазову поновни пораст 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H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због постојања високих нивоа прогестерона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олико се не догоди трудноћа жуто тело пропада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рану трудноћу од суштинског значаја је да постоји континуирана секреција прогестерона којег лучи жуто тело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олико се догоди имплантација ембриона, трофобластне ћелије плаценте, која је у фази развоја, луче хормон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умани хорионски гонадотропин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CG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аналог 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X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подржава функцију жутог тела све док плацента не преузме функције синтезе великих количина прогестерона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Хормонски систем код жене</a:t>
            </a:r>
            <a:br>
              <a:rPr sz="36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50560" y="1125360"/>
            <a:ext cx="865188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енски хормонски систем, слично као код мушкарца, има три хијерархијски повезана ниво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лобађајући хормон хипоталамуса – гонадотропин-рилизинг хормон (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nR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ни хормони аденохипофизе: фоликулостимулирајући хормон (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и лутеинизирајући хормон (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рмони јајника, естроген и прогестерон, које луче јајници стимулисани дејством два полна хормона аденохипофизе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Менопауз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178920" y="836280"/>
            <a:ext cx="87138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ндром “недовољне функције јајника”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станак менструације је универзална карактеристика менопаузе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д нивоа естрогена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Несаница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Напади врелине (валунзи)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Различит степен атрофије вагиналне слузнице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Смањење величине дојки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Остеопороза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разит пад концетрације естрогена и прогестерон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станком функције јајника губи се негативна повратна спрега на ГнРХ, тако да у серуму расту концетрације 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SH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H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во 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SH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од жена у постменопаузи је посебно повишен услед недостатка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хибина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хормона којег је лучио јајник и који је, механизмом повратне спреге, селективно деловао на лучење 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SH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лођење јајне ћелије и трудноћ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78920" y="1484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рматозоиди и јајна ћелија обично се успешно срећу у проширеном делу јајовода (ампула)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лођење јајне ћелије се дешава унутар уског временског интервала, само неколико сати од овулације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лођена јајна ћелија се задржава у јајоводу током наредна три дана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јајоводу се оплођена јајна ћелија дели и настаје солидна маса од 12 или више ћелија –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рула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рула се током наредна три дана развија у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астоциту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и слободно лебди у шупљини материце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 имплантације бластоците у ендометријум материце долази 6-7 дана након овулације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AutoShape 13"/>
          <p:cNvSpPr/>
          <p:nvPr/>
        </p:nvSpPr>
        <p:spPr>
          <a:xfrm>
            <a:off x="5572080" y="357120"/>
            <a:ext cx="2852640" cy="2928960"/>
          </a:xfrm>
          <a:prstGeom prst="wedgeEllipseCallout">
            <a:avLst>
              <a:gd name="adj1" fmla="val -28893"/>
              <a:gd name="adj2" fmla="val 115314"/>
            </a:avLst>
          </a:prstGeom>
          <a:gradFill rotWithShape="0">
            <a:gsLst>
              <a:gs pos="0">
                <a:srgbClr val="004e9b"/>
              </a:gs>
              <a:gs pos="50000">
                <a:srgbClr val="0066cc"/>
              </a:gs>
              <a:gs pos="100000">
                <a:srgbClr val="004e9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1800" spc="-1" strike="noStrike">
                <a:solidFill>
                  <a:srgbClr val="ffffff"/>
                </a:solidFill>
                <a:latin typeface="Arial"/>
              </a:rPr>
              <a:t>Non scholae, sed vitae discimu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1800" spc="-1" strike="noStrike">
                <a:solidFill>
                  <a:srgbClr val="ffffff"/>
                </a:solidFill>
                <a:latin typeface="Arial"/>
              </a:rPr>
              <a:t>Haurit aquam cribro qui discere vult sine libro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2" descr="ilustracija11"/>
          <p:cNvPicPr/>
          <p:nvPr/>
        </p:nvPicPr>
        <p:blipFill>
          <a:blip r:embed="rId1"/>
          <a:srcRect l="10347" t="0" r="12013" b="0"/>
          <a:stretch/>
        </p:blipFill>
        <p:spPr>
          <a:xfrm>
            <a:off x="357120" y="1643040"/>
            <a:ext cx="4500720" cy="5214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Неплоднос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250920" y="1628640"/>
            <a:ext cx="864216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могућност жене да затрудни након 12 месеци редовних полних односа у којима нису коришћена заштитна средств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17% без утврђеног узрок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25% фактори код мушкарц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58% фактори код жен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Стадијуми фертилизације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50560" y="1628280"/>
            <a:ext cx="8435880" cy="506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рматозоиди се везују за зону пелуциду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розомална реакција (акрозом – велика секреторна везикула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рматозоид пробија зону пелуциду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пање мембрана јајне ћелије и сперматозоид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тикална реакција јајне ћелије изазвана уласком једра сперматозоида (“каљење зоне пелуциде” – спречавање полиспермије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енски пронуклеус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шки пронуклеус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нгамија: пронуклеуси се спајају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Имплантација</a:t>
            </a:r>
            <a:r>
              <a:rPr b="1" lang="sr-Latn-CS" sz="4000" spc="-1" strike="noStrike">
                <a:solidFill>
                  <a:srgbClr val="000000"/>
                </a:solidFill>
                <a:latin typeface="Calibri"/>
              </a:rPr>
              <a:t> I</a:t>
            </a:r>
            <a:r>
              <a:rPr b="0" lang="sr-Latn-CS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250920" y="1628280"/>
            <a:ext cx="86421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лојена јана ћелија ћелија се развија током 6-7 дана пре него што се имплантир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шупљини материце, пре имплантације, секрет ендометријалних жлезда исхрањује ембрион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чност унутар шупљине материце се постепено апсорбује преко прстолистих наставака ендометријума –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нопод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стадијуму бластоцисте, ембрион који се развија има сферни облик; то је шупљина која је испуњена течношћу коју окружује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ј ћелија трофобласт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Имплантација</a:t>
            </a:r>
            <a:r>
              <a:rPr b="1" lang="sr-Latn-CS" sz="4000" spc="-1" strike="noStrike">
                <a:solidFill>
                  <a:srgbClr val="000000"/>
                </a:solidFill>
                <a:latin typeface="Calibri"/>
              </a:rPr>
              <a:t> II</a:t>
            </a:r>
            <a:r>
              <a:rPr b="0" lang="sr-Latn-CS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24000" y="1125000"/>
            <a:ext cx="864072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платација се одвија у три стадијума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позиција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стварање лабаве везе између трофобласта и ендометријума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дхезија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интеракција преко специфичних лиганд-рецептора када се на трофобластним ћелијама појаве микровили (убрзо се трофобласт диференцира у два слоја: унутрашњи - цитотрофобласт и спољашњи окренут ендометријуму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нцициотрофобласт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вазија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ендометријалне строме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нцициотрофобластом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ембрион потпуно уроњен у ендометријум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кон синцициотрофобластне инвазије, цео ендометријум пролази кроз даље биохемијске и морфолошке промене, које чине процес децидуализације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децидуална реакција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цидуална реакција започиње на месту имплантације и шири се у концетричним круговима кроз цео ендометријум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Постељица (плацента) </a:t>
            </a:r>
            <a:r>
              <a:rPr b="1" lang="sr-Latn-CS" sz="4000" spc="-1" strike="noStrike">
                <a:solidFill>
                  <a:srgbClr val="000000"/>
                </a:solidFill>
                <a:latin typeface="Calibri"/>
              </a:rPr>
              <a:t>I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24000" y="1341000"/>
            <a:ext cx="84960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ељицу изграђују елементи пореклом од мајке и од фетуса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ељица има две основне функције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Транспорт материј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Ендокрина жлезд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нцициотрофобласт продире у дубље слојеве ендометријума и формира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акуне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да крвни судови мајке у ендометријуму буду еродирани, лакуне се испуњавају мајчином крвљу, спајају у један простор и формирају интервилозни простор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рионске ресице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чињу да расту из цитотрофобласта да би направиле контакт са лакунама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рвилозни простор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 понаша попут џиновског капилара, у који улази свежа крв из мајчиних спиралних артерија, а која напушта постељицу путем вена постељице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Постељица (плацента) </a:t>
            </a:r>
            <a:r>
              <a:rPr b="1" lang="sr-Latn-CS" sz="4000" spc="-1" strike="noStrike">
                <a:solidFill>
                  <a:srgbClr val="000000"/>
                </a:solidFill>
                <a:latin typeface="Calibri"/>
              </a:rPr>
              <a:t>II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250560" y="1267920"/>
            <a:ext cx="856908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зрелим хорионским ресицама се налазе фетални крвни капилари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интервилозном простору се налази мноштво хорионских ресица које формирају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рионску плочу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тална крв, која протиче кроз хорионску ресицу долази у плаценту путем две пупчане артерије, које се након уласка у хорионску плочу вишеструко гранају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в из хорионских ресица се враћа у фетус преко пупчаних вена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теро-плацентарна мембрана обезбеђује размену материја између крви мајке и фетуса и садржи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Ендотел капилара фетуса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Слој цитотрофобласта и мезенхимске ћелије фетуса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Слој синцициотрофобласта који је окренут ка базену мајчине крви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Транспорт материја кроз постељицу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50560" y="980640"/>
            <a:ext cx="856908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вија се комбинацијом активних и пасивних механизама транспорта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сеоник и угљен-диоксид се транспортују простом дифузијом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икоза се у фетални крвоток транспортује механизмом олакшане дифузије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тални хемоглобин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а већи афинитет за кисеоник од хемоглобина одраслих, тако да при вредности парцијалног притиска кисеоника од 30 ммХг, Колики је По2, у пупчаној вени, остварује се засићење хемоглобина од 80-90%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минокиселине се углавном транспортују механизмом секундарног активног транспорта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лике молекуле попут липопротеина мале густине (ЛДЛ), антитела и друге пептиде (трансферин) преузимају ћелије синцициотрофобласта путем рецепторски-посредоване ендоцитозе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зина транспорта се знатно повећава у последњим недељама трудноће, одражавајући убрзан раст фетуса у том периоду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унски систем новорођенчета састоји се од ИгГ мајке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Плацентарни пептид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250560" y="764640"/>
            <a:ext cx="8893080" cy="609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умани хорионски гонадотропин (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CG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тити жуто тело од дегенерације и обезбеђује континуирано лучење прогестерона ради подршке и одржавања ране трудноће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ељица преузима функцију лучења прогестерона око 8-9 недеље трудноће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кон тога концетрација хЦГ у плазми се снижава, али и даље остаје значајна за одржавање лучења прогестерона из ћелија синцициотрофобласта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центарна секреција хЦГ је под паракрином контролом локално произведеног ГнРХ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умани хорионски соматотропин (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CG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(хумани плацентарни лактоген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но сличан хормону раста и пролактину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мањује искоришћавање гликозе код мајке и смањује мајчин одговор на инсулин, чиме се штеди гликоза за потребе фетуса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сне киселине и кетонска тела су важни енергетски извори за плод и постељицу, а хЦС стимулише стварање тих супстрата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крају трудноће стимулише развој млечних жлезда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964720" cy="13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Стварање стероидних хормона у утеро-плацентарно-феталној јединици </a:t>
            </a:r>
            <a:r>
              <a:rPr b="1" lang="sr-Latn-CS" sz="4000" spc="-1" strike="noStrike">
                <a:solidFill>
                  <a:srgbClr val="000000"/>
                </a:solidFill>
                <a:latin typeface="Calibri"/>
              </a:rPr>
              <a:t>I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79280" y="1700280"/>
            <a:ext cx="878544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ком трудноће нивои естрогена и прогестерона у крви мајке много су виши него у било којој фази нормалног менструалног циклуса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ши нивои стероидних хормона су неопходни за одржавање трудноће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естерон је у утерусу неопходан да би одржао децидуу и релаксирао глатки мишић утеруса са циљем спречавања избацивања плода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кон девете недеље трудноће већина стероида у крви мајке пореклом је из постељице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процесу синтезе стероидних хормона постељици помажу и мајка и фетус у смислу обезбеђивања потребних супстрата и ензима –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теро-плацентарно-фетална јединиц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4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Стварање стероидних хормона у утеро-плацентарно-феталној јединици </a:t>
            </a:r>
            <a:r>
              <a:rPr b="1" lang="sr-Latn-CS" sz="4000" spc="-1" strike="noStrike">
                <a:solidFill>
                  <a:srgbClr val="000000"/>
                </a:solidFill>
                <a:latin typeface="Calibri"/>
              </a:rPr>
              <a:t>II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179280" y="1557360"/>
            <a:ext cx="896472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ДЛ холестерол пореклом од мајке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за стероидогенезу у плаценти (плаценти недостају ензими који су неопходни за синтезу холестерола из ацетата; када је снабдевана довољном количином холестерола, плацента може да синтетише прогестерон)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центи недостају ензими потребни за синтезу естрогена, али она садржи ензим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оматазу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чија је активност веома висока и чијим деловањем се андрогени претварају у естрогене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дбубрежне жлезде фетуса снабдевају плаценту слабим андрогеним хормонима који се у плаценти претварају у естрогене хормоне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надбубрежним жлездама се синтетише дехидроепиандростерон-сулфат (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HEA-S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а његов већи део се у јетри фетуса претвара у 16-хидрокси-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HEA-S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AutoShape 13"/>
          <p:cNvSpPr/>
          <p:nvPr/>
        </p:nvSpPr>
        <p:spPr>
          <a:xfrm>
            <a:off x="5572080" y="357120"/>
            <a:ext cx="2852640" cy="2928960"/>
          </a:xfrm>
          <a:prstGeom prst="wedgeEllipseCallout">
            <a:avLst>
              <a:gd name="adj1" fmla="val -28893"/>
              <a:gd name="adj2" fmla="val 115314"/>
            </a:avLst>
          </a:prstGeom>
          <a:gradFill rotWithShape="0">
            <a:gsLst>
              <a:gs pos="0">
                <a:srgbClr val="004e9b"/>
              </a:gs>
              <a:gs pos="50000">
                <a:srgbClr val="0066cc"/>
              </a:gs>
              <a:gs pos="100000">
                <a:srgbClr val="004e9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1800" spc="-1" strike="noStrike">
                <a:solidFill>
                  <a:srgbClr val="ffffff"/>
                </a:solidFill>
                <a:latin typeface="Arial"/>
              </a:rPr>
              <a:t>Не учимо за школу већ за живот</a:t>
            </a:r>
            <a:r>
              <a:rPr b="0" i="1" lang="sr-Latn-CS" sz="1800" spc="-1" strike="noStrike">
                <a:solidFill>
                  <a:srgbClr val="ffffff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1800" spc="-1" strike="noStrike">
                <a:solidFill>
                  <a:srgbClr val="ffffff"/>
                </a:solidFill>
                <a:latin typeface="Arial"/>
              </a:rPr>
              <a:t>Црпе воду решетом ко хоће да учи без књиге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2" descr="ilustracija11"/>
          <p:cNvPicPr/>
          <p:nvPr/>
        </p:nvPicPr>
        <p:blipFill>
          <a:blip r:embed="rId1"/>
          <a:srcRect l="10347" t="0" r="12013" b="0"/>
          <a:stretch/>
        </p:blipFill>
        <p:spPr>
          <a:xfrm>
            <a:off x="357120" y="1643040"/>
            <a:ext cx="4500720" cy="5214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864216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Стварање стероидних хормона у утеро-плацентарно-феталној јединици </a:t>
            </a:r>
            <a:r>
              <a:rPr b="1" lang="sr-Latn-CS" sz="3600" spc="-1" strike="noStrike">
                <a:solidFill>
                  <a:srgbClr val="000000"/>
                </a:solidFill>
                <a:latin typeface="Calibri"/>
              </a:rPr>
              <a:t>III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79280" y="1628280"/>
            <a:ext cx="87854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триол (Е3)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 синтетише у плаценти из 16-О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HEA-S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фетус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ком нормалног менструалног циклуса естриол не представља посебно важну врсту естрогена, али се у трудноћи он сматра главним естрогеним хормоно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триол има слаб естрогени ефекат у већини мајчиних органа, али појачава утеро-плацентарни проток крв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фетусу се не синтетишу ни прогестерон нити естрогени, чиме се избегава изложеност фетуса високим концетрацијама ових хормон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да фетус синтетише велике количине слабих андрогена, до маскулинизације женског фетуса не долази, је плацента делује као велики одвод за феталне андроген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Calibri"/>
              </a:rPr>
              <a:t>Примена естрогена код менопаузалних жен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250920" y="1916280"/>
            <a:ext cx="844704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гу да ублаже неке од тегоба постменопаузалног период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поре остеопорозу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поре поједине манифестације старењ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Calibri"/>
              </a:rPr>
              <a:t>Менопауза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ње дефицита естроге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ње измењеног метаболизма естроге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оминантна форма постаје естрон (настао екстрагландуларном конверзијом прехормона, а не естрадиол који секретује јајник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Calibri"/>
              </a:rPr>
              <a:t>Терапија естрогенима у менопауз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2642760"/>
            <a:ext cx="8229600" cy="348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рмаколошка супституција естрадиола једним или другим аналогом естрогена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Calibri"/>
              </a:rPr>
              <a:t>Естрогени доступни за супституциону терапију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њуговани естрогени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мене за естроген (диетилстилбестрол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нтетски естрогени (етинил естрадиол или деривати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кронизовани естрадио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гиналне креме с естрогено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рмални фластери с естрогено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Calibri"/>
              </a:rPr>
              <a:t>Селективни модулатори естрогених рецептор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локсифе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трогено дејство на кост и КВС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тиестрогени ефекат на дојку и утерус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зује се за ЕР и изазива промене конформације у домену рецептора везаном за транскрипцију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мају ефекте на валунге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280" y="333000"/>
            <a:ext cx="8785440" cy="18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Calibri"/>
              </a:rPr>
              <a:t>Терапијски режими који са собом носе мали ризик од појаве компликација обухватају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79280" y="2421000"/>
            <a:ext cx="878544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икличну терапију естрогенима у најнижој ефективној дози током 25 дана у месецу или континуирану примену сваког дана у месецу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троген уз додатак прогестерона последњих 10 до 14 дана терапије естрогеним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инуирану свакодневну примену нискодозних препарата прогестаген + естроген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акодневно селективне модулаторе Е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Calibri"/>
              </a:rPr>
              <a:t>Рани позитивни ефекти терапије естрогеним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блажавање вазомоторне нестабилности (таласи врућине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блажавање атрофије урогениталног епител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блажаванје атрофије кож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Calibri"/>
              </a:rPr>
              <a:t>Потенцијалне компликациј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цином ендометријум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цином дојк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пертензиј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омбоемболијска болес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зик настанка калкулозе жучне кес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78544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Calibri"/>
              </a:rPr>
              <a:t>Рационалан приступ примени естрогена код менопаузалних жена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40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179280" y="1989000"/>
            <a:ext cx="878544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о се дуготрајно примењују естрогени, треба давати минималну ефективну дозу (0,625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g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њугованог естрогена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 os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 1,0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g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кронизованог естрадиола или трансдермално 0,05-1,0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g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фластерима који се мењају једном или два пута недељно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д жена с интактним утерусом неки клиничари примењују само естроген током првих 15 дана, а затим естроген и прогестерон до краја месец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јчеши терапијски режим је континуирана примена естрогена уз континуирано мале дозе прогестерон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8920" y="4723920"/>
            <a:ext cx="6480360" cy="54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Физиологија женског репродуктивног система </a:t>
            </a:r>
            <a:br>
              <a:rPr sz="3600"/>
            </a:br>
            <a:br>
              <a:rPr sz="36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-360" y="274680"/>
            <a:ext cx="8893080" cy="120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Calibri"/>
              </a:rPr>
              <a:t>Рационалан приступ примени естрогена код менопаузалних жена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40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178920" y="2133360"/>
            <a:ext cx="8713800" cy="43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ваква супституциона терапија је рутински индикована код жена с превременом менопаузом (хируршком или спонтаном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апија естрогенима је такође рутински индикована код жена са веома израженим валунзима или симптомима атрофије урогениталног епител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ласи врућине ретко перзистирају дуже од 7 година, тако да је терапија дата с овом наменом временски ограничен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50752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Calibri"/>
              </a:rPr>
              <a:t>Рационалан приступ примени естрогена код менопаузалних жена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40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250920" y="2133360"/>
            <a:ext cx="8642160" cy="43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д жена којима је урађена хистеректомија потенцијална корист  од терапије превазилази ризик, тако да се препоручује циклична или континуирана примена естрогена без прогестерон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 ли естрогене треба рутински уводити код свих жена са интактним утерусом и даље је нерешено питање, али аутори препоручују терапију ако нема контариндикација ради ублажавања остеопорозе и смањења ризика за настанак кардиоваскуларних обољењ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-360" y="259920"/>
            <a:ext cx="8893080" cy="151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Calibri"/>
              </a:rPr>
              <a:t>Рационалан приступ примени естрогена код менопаузалних жена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40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2421000"/>
            <a:ext cx="8229600" cy="37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локсифен таблете дају се у дози од 6о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g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невно, када је циљ превенција губитка коштане масе без додатног ризика од настанка естроген-зависног карцинома дојке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ака жена на терапији естрогенима мора бити рутински праћена једном годишњ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Calibri"/>
              </a:rPr>
              <a:t>Приказ пацијент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250560" y="1413000"/>
            <a:ext cx="87138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спођа К.Х., стара 42 године, непушач, од пре 6 месеци нема менструациона крвављења. Последња два месеца више пута у току дана добија нападе врућине, када се лице и врат прелију црвенилом, а потом пацијенткиња презноји. Када напад врућине прође, јављају се осећај хладноће и дрхтавица. Такође, пацијенткиња се жали на губитак концентрације и памћења. Пацијенткиња више година води живот са мало физичких активност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не уноси довољно млека ни млечних производа. У породичној анамнези постоји податак да је тетка пацијенткиње оперисана због карцинома дојке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468360" y="1699920"/>
            <a:ext cx="8229600" cy="28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 утврдити да се пацијенткиња налази у менопаузи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о се менопауза заиста потврди, да ли пацијенткиња треба да надокнађује полне хормоне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ји хормонски препарат за надокнаду треба изабрати код ове пацијенткиње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та треба урадити пре увођења препарата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ilustracija3"/>
          <p:cNvPicPr/>
          <p:nvPr/>
        </p:nvPicPr>
        <p:blipFill>
          <a:blip r:embed="rId1"/>
          <a:srcRect l="6228" t="0" r="0" b="0"/>
          <a:stretch/>
        </p:blipFill>
        <p:spPr>
          <a:xfrm>
            <a:off x="4786200" y="0"/>
            <a:ext cx="4357800" cy="68580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2" descr="ilustracija4"/>
          <p:cNvPicPr/>
          <p:nvPr/>
        </p:nvPicPr>
        <p:blipFill>
          <a:blip r:embed="rId2"/>
          <a:stretch/>
        </p:blipFill>
        <p:spPr>
          <a:xfrm>
            <a:off x="0" y="0"/>
            <a:ext cx="464328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енски репродуктивни систем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323640" y="1699920"/>
            <a:ext cx="8064360" cy="44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рњи репродуктивни трак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ајниц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јовод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терица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њи репродуктивни трак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гин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улва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j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ц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250560" y="1484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рне полне женске жлезде (гонаде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то одвијања гаметогенезе (оогенезе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вни извор полних стероидних хормон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лобађају једну јајну ћелију (ооцит) у репродуктивни тракт (једном месечно?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столошки изглед јајника се разликује зависно од периода оваријалног циклус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нутар растућих фоликула се могу видети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 Јајне ћелије у различитим фазама развој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Жуто тело (цорпус лутеум) – привремена ендокрина жлезд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000000"/>
                </a:solidFill>
                <a:latin typeface="Calibri"/>
              </a:rPr>
              <a:t>Jajo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води</a:t>
            </a:r>
            <a:r>
              <a:rPr b="1" lang="sr-Latn-CS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0" y="126828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анспортују јајну ћелију и сперматозоиде до места њиховог спајања (фертилизације)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анспортују зигот до места његове имплантације у материцу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јајоводу се разликују четири дела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мбрије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прстолики наставци, који прихватају јајну ћелију након што се она ослободи из јајника у току овулације (трепљасти епител, облаже лумен јајовода и покреће јајну ћелију дуж јајовода према материци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сто оплодње јајне ћелије (фертилизација) –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мпула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мус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помаже да се ембрион задржи у јајоводу 2-3 дана (током тог периода сазревање ендометријума)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рамурални део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место уласка јајовода у материчну шупљину (рог материце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250920" y="1125360"/>
            <a:ext cx="864216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Мишићни орган крушколиког изгледа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Функција – да подржи раст фетуса за време трудноће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натомска грађа материце обухвата три дела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Баз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(fundu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л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Грлић</a:t>
            </a: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материце</a:t>
            </a: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врат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цервикс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Цербикални кана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Цервикална слуз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 време овулације, под утицајем високе концетрације естрогена и ниске концетрације прогестерона, водњикава и ретка, што омогућава пролазак сперматозоида – “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апратизација” цервикалне слузи</a:t>
            </a: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 каснијим фазама менструалног циклуса високе концетрације прогестерона подстичу лучење гушће слузи која онемогућава пролазак сперматозоида</a:t>
            </a: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риц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250920" y="1341360"/>
            <a:ext cx="864216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пителни слој материце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сечни ендометријални циклус има три фазе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лиферативна фаза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прва половина циклуса, пре овулације, под утицајем високих концетрација естрогена задебљање ендометријума, раст енсометријалних жлезда, појава спиралних артерија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ктреторна фаза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друга половина циклуса, доминантан утицај прогестерона, ендометријалне жлезде припремају ендометријум за имплантацију ембриона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нструална фаза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олико не дође до имплантације ембриона, ниво прогестерона опада, месечни циклус се ближи крају, спазам спиралних артерија материце (некроза ткива, слој ендометријума се одлубљује, менструално крварење (мензис) које траје 4-5 дана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ндометријум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37:56Z</dcterms:created>
  <dc:creator/>
  <dc:description/>
  <dc:language>en-US</dc:language>
  <cp:lastModifiedBy/>
  <dcterms:modified xsi:type="dcterms:W3CDTF">2016-09-04T12:10:59Z</dcterms:modified>
  <cp:revision>5</cp:revision>
  <dc:subject/>
  <dc:title>Комуникација са пацијентом и другим здравственим радницим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1659561033</vt:lpwstr>
  </property>
</Properties>
</file>